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DBA-216F-4886-B5E4-DD700A4C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E78-341A-4C3B-92A7-90024CFF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805-8E87-4CB0-A489-9AE2EACA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E78-91F5-4F7E-A2E5-69FB7ABD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E23-893F-4973-83D8-D168AF3F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575-5166-4DA9-A6E8-C17FFCB1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2F5-76FD-4238-AC36-AD19CB97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7F1-C2D4-4ED3-A874-AABBD86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BC2-7611-46CC-9EBE-6143748E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256-AA81-4E3D-8A7C-459B027F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AA8-495D-4045-81B1-6EEDDCB8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5F0-9B33-4560-A618-793A70AD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1254-0D16-4F1B-A02B-2B6CEEEC2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286000" y="380880"/>
            <a:ext cx="4662360" cy="21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3D shapes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09480" y="2514600"/>
            <a:ext cx="1263600" cy="18288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200400" y="3276720"/>
            <a:ext cx="2057400" cy="166500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685800" y="5486400"/>
            <a:ext cx="3657600" cy="9907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6324480" y="2362320"/>
            <a:ext cx="2246400" cy="224928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44a92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5"/>
          <p:cNvGrpSpPr/>
          <p:nvPr/>
        </p:nvGrpSpPr>
        <p:grpSpPr>
          <a:xfrm>
            <a:off x="5961600" y="4609440"/>
            <a:ext cx="2021400" cy="1904760"/>
            <a:chOff x="5961600" y="4609440"/>
            <a:chExt cx="2021400" cy="1904760"/>
          </a:xfrm>
        </p:grpSpPr>
        <p:sp>
          <p:nvSpPr>
            <p:cNvPr id="47" name="AutoShape 11"/>
            <p:cNvSpPr/>
            <p:nvPr/>
          </p:nvSpPr>
          <p:spPr>
            <a:xfrm rot="17649600">
              <a:off x="6147000" y="485244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12"/>
            <p:cNvSpPr/>
            <p:nvPr/>
          </p:nvSpPr>
          <p:spPr>
            <a:xfrm rot="17649600">
              <a:off x="6774480" y="5513400"/>
              <a:ext cx="1369800" cy="533520"/>
            </a:xfrm>
            <a:prstGeom prst="ellips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0000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6 flat 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y faces are all rectangles (square or obl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12 straight edges and 8 cor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990720" y="304920"/>
            <a:ext cx="2590560" cy="57909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757680" y="838080"/>
            <a:ext cx="52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Brillia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am a cuboi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no flat fa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no straight ed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just one curved 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1187280" y="112680"/>
            <a:ext cx="6280200" cy="628812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3d981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811880" y="1752480"/>
            <a:ext cx="52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am a spher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one curved 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one flat f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y flat face is a cir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2149560" cy="23194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3152160" y="-117000"/>
            <a:ext cx="5736240" cy="6481800"/>
            <a:chOff x="3152160" y="-117000"/>
            <a:chExt cx="5736240" cy="6481800"/>
          </a:xfrm>
        </p:grpSpPr>
        <p:sp>
          <p:nvSpPr>
            <p:cNvPr id="58" name="AutoShape 6"/>
            <p:cNvSpPr/>
            <p:nvPr/>
          </p:nvSpPr>
          <p:spPr>
            <a:xfrm rot="20661000">
              <a:off x="3686400" y="397440"/>
              <a:ext cx="4443480" cy="4573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7"/>
            <p:cNvSpPr/>
            <p:nvPr/>
          </p:nvSpPr>
          <p:spPr>
            <a:xfrm rot="20661000">
              <a:off x="4310280" y="3975840"/>
              <a:ext cx="4413240" cy="1827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0000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9"/>
          <p:cNvSpPr/>
          <p:nvPr/>
        </p:nvSpPr>
        <p:spPr>
          <a:xfrm>
            <a:off x="228600" y="533520"/>
            <a:ext cx="640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reat work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am a c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6 flat square 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12 straight ed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8 corner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457200" y="304920"/>
            <a:ext cx="5562720" cy="535608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4000" y="242100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Fantastic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I am a cub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24289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one curved f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2 flat circular faces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3"/>
          <p:cNvSpPr/>
          <p:nvPr/>
        </p:nvSpPr>
        <p:spPr>
          <a:xfrm>
            <a:off x="1066680" y="228600"/>
            <a:ext cx="4002120" cy="57913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195264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ell Do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 am a cylind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238880" y="3733920"/>
            <a:ext cx="14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46:58Z</dcterms:created>
  <dc:creator>Claire Mackay</dc:creator>
  <dc:description/>
  <dc:language>en-US</dc:language>
  <cp:lastModifiedBy>USER</cp:lastModifiedBy>
  <dcterms:modified xsi:type="dcterms:W3CDTF">2009-11-16T04:02:22Z</dcterms:modified>
  <cp:revision>4</cp:revision>
  <dc:subject/>
  <dc:title>PowerPoint Presentation</dc:title>
</cp:coreProperties>
</file>